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652-B62E-4341-B722-6427A36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EBE-313D-48F7-A2A7-FD35F13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852-7341-4F33-A166-A6846C71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CF4-E874-4A85-BEEC-FE5D57C4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91C-F5D7-47E3-9F81-2101FFC4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506-8840-4341-B219-976F514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8FD-A53F-4056-A212-DAA6E459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9C3-7365-46B8-B97A-2FE4691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CC3-F1BB-4659-A855-E714B932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A8C-4D7A-4CC1-920D-523F3E3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039-CB54-4260-A573-EB2EF8E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909-032E-4D24-80B5-D9EA99A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7516A964-90EC-46DF-B116-109C7412921E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511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January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81120"/>
            <a:ext cx="695340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ome basics about ‘MEP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F7C-9A06-4E01-BDC5-6E71F4426C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059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 KIC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BE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AFT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L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is defin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irement Release - Design freez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mplementation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Synchronization Integration Point (S 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Integration Point (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1 Module Operable in Basic Func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Functional Sample (B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Prototype Device B1+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ales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 for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art - Release for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pproval Sta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K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turity of Key Applicatio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livery Start - limited release for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3/S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nlimited Release for Market / Development Project finish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 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ART RAMP-DOW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MP DOWN STRATEGY FIX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F/V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OP, SALES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ERVICE STOP, PRODUCT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2C2-2484-4006-A0E0-F55BB889B5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Checkpoints statis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600" y="1690560"/>
            <a:ext cx="8923320" cy="21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18A-0CD2-4437-BB76-24FB227DAEA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istory IPO/ME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4680" y="764640"/>
            <a:ext cx="8037720" cy="25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d to late 90s: IPO (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tegriert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zess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dnu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scrib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rganizational framework / Team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cess / task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s accompanying 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milestone checklist: ME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(Meilensteinergebnisse in der Produktentwicklung / Milestone Execution Plan)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 purpose: Synchronization between involved func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920" y="3328920"/>
          <a:ext cx="691992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3328920"/>
                    <a:ext cx="69199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E92-14FC-4CD1-9FD8-4D33DA69D80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oda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040" y="947520"/>
            <a:ext cx="8477280" cy="53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PO almost unknown. MEP is seen as ‘The Process’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n parallel: ‘PLM-picture’, organization and role description on the intran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s were added: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k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PS, DS, AS, MK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rom MEP 6-&gt;MEP 7: increased number of checkpoi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ome complaints: too complex / too much / too vague / too imprecise / un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Ownership of MEP changed frequently. Today: IT P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hecklist responsible assigned per func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teps: R&amp;D-driven (+TPM) (E03/2006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of product classes I-IV. R&amp;D not driving entire MEP adap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daptation to new Org (espc. TPM -&gt; roles TPM / TPM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EBD-887B-4402-9626-DB62D9D680E7}" type="slidenum">
              <a:t>3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Pros and cons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11160"/>
            <a:ext cx="38815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Guideline through proje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rehensive documentation (also for newcomer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greement between all project play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need for re-inventing the whe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flects ‘best practices’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pen for chang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62400" y="968400"/>
            <a:ext cx="4641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is 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ailoring-option almost unknown/not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o complex, big, .., unclear compl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ording (e.g. requ./feature, fixed/final/rele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ix of generic/quantitativ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Word document -&gt; better Excel or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igning of milest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cedure: Everybody wants to sign….. No clear and simple responsib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Paper/Fax, manu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33960" y="1011240"/>
            <a:ext cx="0" cy="479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B81-0619-47EF-AC8B-A115415E21EB}" type="slidenum">
              <a:t>4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me fig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58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ast release V 7.01, 07/2005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(160 pages, herder: 8p, ‘process’, teams, responsibilities: 12p, checkpoints:113p, MS declarations 27p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0 disciplines/functions/teams (8 are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3 milestones, 19 immediately relevant for R&amp;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0-M3/S4 (16MS): ~1800 checkpoints for all discipli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check items M0-M3/S4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653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peak at M0, M1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W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(343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8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7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5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4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chanic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71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oftwar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3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 Test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5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ject Management (~TPM-R&amp;D)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1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2E8-435B-4AE0-A405-A1115BA3E33E}" type="slidenum">
              <a:t>5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ToDo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2011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class adaptation (running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lected ‘Cons’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daptation to agile develop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HE&lt;-&gt;PHA process synchron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AB2-A0F0-46D2-BE5D-52951F3132BB}" type="slidenum">
              <a:t>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Questions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80028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DA2-7405-4104-BDAD-B843A06874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ADC-F0CD-49EE-B881-B763A4D70D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Functions/Disciplines/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oadmap Defini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nci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finition and Industrial Desig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pply Chain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Material Quality and Technical Capabi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ke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stomer C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curement Enginee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velop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echan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7DF-4979-4FA9-8930-89FC84A13F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Uwe Schmitz</dc:creator>
  <dc:description/>
  <dc:language>en-US</dc:language>
  <cp:lastModifiedBy>SchmitzU</cp:lastModifiedBy>
  <dcterms:modified xsi:type="dcterms:W3CDTF">2006-01-30T08:34:47Z</dcterms:modified>
  <cp:revision>365</cp:revision>
  <dc:subject/>
  <dc:title>MEP intro</dc:title>
</cp:coreProperties>
</file>